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1E0-60F6-4E76-8934-BB4BBEC0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6D9-BC9B-4D2A-8812-F93608FD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866-9227-44CB-A7CE-4244F066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554-044A-460D-9A26-AD646D55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B4F-0632-4C60-9FB6-C5E1814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6AC-C39F-4DCD-84BD-E3640B1D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E3E-FBC5-435E-8161-9FFF7F28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D59-C3AA-47C9-8E53-1CF2FF89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D22-7680-4192-977F-4D70685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887-FCFF-4B41-96F3-78A10F1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96D-5A0B-46E5-A526-A2ADB7B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A3F-8503-40B9-BBFD-81096BF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8536-B1A1-440F-82CF-1CB2E592BA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21160"/>
            <a:ext cx="9144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iao-Shan G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MM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Institute of System Scienc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Academia Si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762120"/>
            <a:ext cx="777240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MP/Geom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Automated Generation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Geometric Diagrams and Theorem 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mitation of  D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7524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r and compass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867040"/>
            <a:ext cx="2514600" cy="17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105520" y="2892600"/>
          <a:ext cx="220968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892600"/>
                    <a:ext cx="220968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219320" y="464832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find ruler compass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5720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r compass construction does not ex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Dynamic Geomet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idea of dynamic geometry and AGDG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eatures:  automated generation of ruler and compass construction, general methods for diagram construction. (Intelligent Dra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e geometric diagrams interactively as DG software and does not have the limitation of ruler and compass con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1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ind a Ruler and Compass constru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peatedly remove those geometric objects that can be constructed explicit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G(v)   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DOF(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This is a linear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</a:rPr>
              <a:t>Solves about eighty percent of the problems in geometry text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21337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LIM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1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Find a Ruler and Compass constr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6668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Rigid Body Tran, Angle Tran, Parallelogram Tran to solve th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is is a quadratic algorith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 for drawing problems of simple polyg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8288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xample of Parallel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199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2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Numerical Compu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 graph theory to decompose the problem into general construction sequence (GC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1,C2,…,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i are sets of geometric objects such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i can be constructed from 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…C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form a rig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tep 1: Generate a GC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Methods: phase 2 </a:t>
            </a:r>
            <a:br>
              <a:rPr sz="44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Numerical Compu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ing a set of algebraic equ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=0, … ,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)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 S(X)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ptimization method to find a minimal value:  S(X0): mini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(X0) =0, we found a set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7652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tep 2: Compute the GC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xam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2880" y="1371600"/>
          <a:ext cx="22100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371600"/>
                    <a:ext cx="22100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43200" y="1371600"/>
          <a:ext cx="2043000" cy="15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3200" y="1371600"/>
                    <a:ext cx="2043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066680" y="3200400"/>
          <a:ext cx="7010280" cy="3105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 of c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of Quad Eq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 (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Geometry Reas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y theorem  proving is considered as one of the hardest mental lab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uclid: There is no royal road to geometr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y is considered the model of axiomazition and rigorous reas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 is a benchmark to test a reasoning meth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n Application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ntelligent C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600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uler and Compass Construction: Appolonius problem and C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2789280"/>
            <a:ext cx="4114800" cy="2676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4320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2789280"/>
            <a:ext cx="3657600" cy="269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71600" y="57150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roble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 Solution to RC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 of the tal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P: A Brief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P/Geometer: Diagra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P/Geometer: Proof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Geometry Reas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u's method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a coordinate-based method. Applies to Euclidean and differential ge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Area method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use geometric invariants to prove theorems; can be used to produce human-readable proo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Deductive database metho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 Generate fixpoint for a geometric figure; produce proofs in traditional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MP/Geom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7524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ed thousands of geometry theorems in elementary, differential geometries and mechan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ed discover of geometric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human readable 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multiple and shortest pro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1055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Invites comparison with the best of human geometry provers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u’s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600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y Theorem:  HYP  =&gt;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4592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ebraic Statement:  PS=0  =&gt;   G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5166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ed Pro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209680"/>
            <a:ext cx="228600" cy="1295640"/>
          </a:xfrm>
          <a:prstGeom prst="downArrow">
            <a:avLst>
              <a:gd name="adj1" fmla="val 50000"/>
              <a:gd name="adj2" fmla="val 14169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19112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251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419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istic set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u’s Method: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C: For constructive stat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G: General version of Wu’s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F: Discover geometric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U-D: General version for differential ge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rst Order Theory for Geome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asic Stateme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llinea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qual distance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 is a statement =&gt;   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f) is also a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,G  are statement  =&gt; F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 are also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 is a statement =&gt; 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x(f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x(f) are also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410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u’s method is complete for the first order theory of geometry over the complex numb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ea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ed Produced Pro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O/CO = 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DB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/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DC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CB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/S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CBA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48040" y="12193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ou,Gao,Zhang: Machine Proof in Geometry, World Scientific, 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ductive Database Meth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0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:   Geometric Axiom/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124080"/>
            <a:ext cx="807732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0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2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 properties obtained from 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ith 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(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= D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FIXPOIT of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429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0968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ward 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20760" y="300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3760" y="2971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6120" y="2971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505320"/>
            <a:ext cx="83808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429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429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715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ou,Gao,Zhang: A Deductive Geometry Database, JAR, 2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5541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Hypotheses of a geometric the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447920"/>
          <a:ext cx="7391160" cy="4064040"/>
        </p:xfrm>
        <a:graphic>
          <a:graphicData uri="http://schemas.openxmlformats.org/drawingml/2006/table">
            <a:tbl>
              <a:tblPr/>
              <a:tblGrid>
                <a:gridCol w="2955960"/>
                <a:gridCol w="4435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ber of Theorems Pro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U-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D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Use More Method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2600" y="22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U-C      WU-G      AREA       D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95596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 Power: 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Quality: In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392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5720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a variety of proofs with different styles for the same theorem (for CA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523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thod has advantage and lim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Stewart Platfo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ositive solution to Stewart Platform is still open (Loc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Has applications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C Machin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ano technolog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Large scale tele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886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762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MP: </a:t>
            </a:r>
            <a:br>
              <a:rPr sz="4400"/>
            </a:b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thmatics Mechanization Platfo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s a standalone software system (Windows/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ith Wu-Ritt characteristic set (CS) method as the Cor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aims to mechan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y theorem proving and algebraic and differential equation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with applications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cience and 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Virtual NC Mach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C machine of the 21 centu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hine made of mathematics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52880" y="2709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58880" y="3429000"/>
            <a:ext cx="26179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257800" y="3429000"/>
            <a:ext cx="2438280" cy="3047760"/>
            <a:chOff x="5257800" y="3429000"/>
            <a:chExt cx="2438280" cy="304776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257800" y="3429000"/>
              <a:ext cx="24382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839560" y="6348240"/>
              <a:ext cx="13222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" y="3049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Application: Stewart Platfor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hat is the  Locus of the Orthocenter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hen a vertex moves on a circ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495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deriv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[[y1,x1,y],[x,a,u,v,r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A,[0,0],B,[a,0],C,[x1,y1],H,[x,y],O,[u,v]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[perp,A,H,B,C],[perp,B,H,A,C],[dis,O,C,r]], [], []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00400" y="2286000"/>
          <a:ext cx="20480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86000"/>
                    <a:ext cx="20480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Orthocenter theorem in natrual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wcprov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"Example Orthocenter. Let ABC be a triangle. Point E is the foot  from point A to line BC. Point F is the foot from point B to line AC. Point H is the intersection of line AE and line BF. Show that CH is perpendicular to AB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Kepler's experimental laws imply Newton's gravitational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Kepler's la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1:Each planet describes an ellipse with the sun in one foc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2:The radius vector drawn from the sun to a planet sweeps out equal areas in equal t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Newton’s gravitational law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force is proportional to the inverse of the square of the distance from the sun to the pa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152280"/>
            <a:ext cx="8153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Kepler's experimental laws imply Newton's gravitational la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3623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star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pend([a,r,y,x],[t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dprov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[[a,r,y,x,p,e],[],[], [r^2-x^2-y^2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^2-x[2]^2-y[2]^2, x*y[2]-x[2]*y, r-p-e*x], [p],[diff(a*r^2,t)]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pace curve satisfies t=k'=0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a circl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ve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</a:rPr>
              <a:t>wprove_curv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[[],[],[],[t,diff(k,s)],[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[[FIX_PLANE,C],[FIX_SPHERE,C]]]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0920" y="291132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anks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0880" y="3049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 set  meth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295280"/>
            <a:ext cx="7086600" cy="12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Wu-Ritt’s zero decompostion the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Zero(PS) = ∪Zero(CS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/I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=Zero(Sat(CS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666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quation Systems         Triangular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895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352680"/>
            <a:ext cx="708660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                     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                    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…                                             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                     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…,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=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114800" y="4419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095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SOLVE Package by Dingkang W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150920"/>
            <a:ext cx="76201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Geometer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Geometric theorem proving, discovering, and diagram generation in Euclidean geometries and differential geomet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PP/Solition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Find the soliton and traveling-wave solutions for non-linear PDEs and approximate analytical solution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RealRoot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Find the number of real solutions for a system of algebraic equ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Linkage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Linkage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Robots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Simulate 6R serial robotic a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MP/Blending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Blend surfaces automatic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27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MP Application Modul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MP/Geom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13372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metric diagram gener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metric theorem pro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metric theorem dis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4640" y="121932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"/>
              </a:rPr>
              <a:t>Goal: automate basic geometric activiti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800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ake geometry aliv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D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tomated geometric diagram gene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icture is more than one thousand words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eality, it is still difficult to generate pictures with computer software, especially for pictures with exact geometric re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ynamic Geometry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ometric models built by software that can be changed dynamical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asic Operations:  dynamic transformation, dynamic measurement, free dragging, and ani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G Software:  Gabri, Geometer's Sketchpad, Geometry Expert, Cinder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06:17:11Z</dcterms:created>
  <dc:creator>mmrc</dc:creator>
  <dc:description/>
  <dc:language>en-US</dc:language>
  <cp:lastModifiedBy>Xiaoshan Gao</cp:lastModifiedBy>
  <dcterms:modified xsi:type="dcterms:W3CDTF">2001-09-23T01:43:13Z</dcterms:modified>
  <cp:revision>327</cp:revision>
  <dc:subject/>
  <dc:title>吴文俊先生工作介绍</dc:title>
</cp:coreProperties>
</file>